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6664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E447-9BDC-4B97-A90D-00A5C4450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5DAF-1D37-4E77-8198-1EC8E753F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F1B5-7436-4CAA-88B2-E10012806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14C0-9196-4F55-B5EE-752C852B5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3E47-A271-48A7-83DD-018FD48BF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3C56-AC3A-4928-8EBB-CEB35440E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8A89-F0AB-4F66-A900-47288BB7B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7188-95FC-4F3B-B698-ED0B34944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8960"/>
            <a:ext cx="61531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B544-1C42-4D3B-BCA3-DAD3F55A5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BE4D-FCB9-4D73-BC2B-2EC934259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B8BA-D908-467D-B0F3-8704460CD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F6F2-46A9-4657-9A22-149FFB6B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70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18560"/>
            <a:ext cx="229248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D535A-69E9-4E4A-BEC9-59CADAC88DA5}" type="slidenum"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1085760" y="762120"/>
            <a:ext cx="1505160" cy="9677160"/>
          </a:xfrm>
          <a:prstGeom prst="rect">
            <a:avLst/>
          </a:prstGeom>
          <a:gradFill rotWithShape="0">
            <a:gsLst>
              <a:gs pos="0">
                <a:srgbClr val="4d7676"/>
              </a:gs>
              <a:gs pos="50000">
                <a:srgbClr val="a7ffff"/>
              </a:gs>
              <a:gs pos="100000">
                <a:srgbClr val="4d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28"/>
          <p:cNvSpPr/>
          <p:nvPr/>
        </p:nvSpPr>
        <p:spPr>
          <a:xfrm>
            <a:off x="2908080" y="3048120"/>
            <a:ext cx="40168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ZÁ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dľa zákona č. 24/2006 Z.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o posudzovaní vplyvov na životné prostred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29"/>
          <p:cNvSpPr/>
          <p:nvPr/>
        </p:nvSpPr>
        <p:spPr>
          <a:xfrm>
            <a:off x="4545000" y="10058400"/>
            <a:ext cx="2335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AUGUST 2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30"/>
          <p:cNvSpPr/>
          <p:nvPr/>
        </p:nvSpPr>
        <p:spPr>
          <a:xfrm>
            <a:off x="1981080" y="9982080"/>
            <a:ext cx="4800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2"/>
          <p:cNvSpPr/>
          <p:nvPr/>
        </p:nvSpPr>
        <p:spPr>
          <a:xfrm>
            <a:off x="2827440" y="695160"/>
            <a:ext cx="44114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Stavebný objekt Heli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v lokalite Ružin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34" descr=""/>
          <p:cNvPicPr/>
          <p:nvPr/>
        </p:nvPicPr>
        <p:blipFill>
          <a:blip r:embed="rId1"/>
          <a:stretch/>
        </p:blipFill>
        <p:spPr>
          <a:xfrm>
            <a:off x="2895480" y="9042480"/>
            <a:ext cx="685800" cy="666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8"/>
          <p:cNvSpPr/>
          <p:nvPr/>
        </p:nvSpPr>
        <p:spPr>
          <a:xfrm>
            <a:off x="2819520" y="7750080"/>
            <a:ext cx="39621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NAVRHOVATE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Univerzitná nemocnica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Pažítková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821 01 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58"/>
          <p:cNvSpPr/>
          <p:nvPr/>
        </p:nvSpPr>
        <p:spPr>
          <a:xfrm>
            <a:off x="2819520" y="8686800"/>
            <a:ext cx="39621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HOTOVITE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ENVICONSULT, spol. s r.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Obežná 7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8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l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5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7"/>
          <p:cNvSpPr/>
          <p:nvPr/>
        </p:nvSpPr>
        <p:spPr>
          <a:xfrm>
            <a:off x="625320" y="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168120" y="-433440"/>
            <a:ext cx="183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rázok 4" descr=""/>
          <p:cNvPicPr/>
          <p:nvPr/>
        </p:nvPicPr>
        <p:blipFill>
          <a:blip r:embed="rId2"/>
          <a:srcRect l="0" t="20916" r="0" b="19627"/>
          <a:stretch/>
        </p:blipFill>
        <p:spPr>
          <a:xfrm>
            <a:off x="2841480" y="8020080"/>
            <a:ext cx="966960" cy="574560"/>
          </a:xfrm>
          <a:prstGeom prst="rect">
            <a:avLst/>
          </a:prstGeom>
          <a:ln w="0">
            <a:noFill/>
          </a:ln>
        </p:spPr>
      </p:pic>
      <p:pic>
        <p:nvPicPr>
          <p:cNvPr id="55" name="Obrázok 5" descr=""/>
          <p:cNvPicPr/>
          <p:nvPr/>
        </p:nvPicPr>
        <p:blipFill>
          <a:blip r:embed="rId3"/>
          <a:srcRect l="0" t="7225" r="0" b="9455"/>
          <a:stretch/>
        </p:blipFill>
        <p:spPr>
          <a:xfrm>
            <a:off x="426960" y="4487760"/>
            <a:ext cx="63784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4:21:49Z</dcterms:created>
  <dc:creator>Ivan Pirman</dc:creator>
  <dc:description/>
  <dc:language>en-US</dc:language>
  <cp:lastModifiedBy>peterh</cp:lastModifiedBy>
  <cp:lastPrinted>2018-08-07T07:21:46Z</cp:lastPrinted>
  <dcterms:modified xsi:type="dcterms:W3CDTF">2018-08-07T07:30:18Z</dcterms:modified>
  <cp:revision>82</cp:revision>
  <dc:subject/>
  <dc:title>Prezentace aplikace PowerPoint</dc:title>
</cp:coreProperties>
</file>